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81A-91DC-4691-BE76-AC33A66720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7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8BBF-2B6F-4AC0-A241-14092A87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920A-2A29-48E2-8DB9-89D56CE4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011Powerpoint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2011Inner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7d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4920" y="4648320"/>
            <a:ext cx="2666880" cy="98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ce National or Local Organization logo here</a:t>
            </a:r>
            <a:br>
              <a:rPr sz="9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loca el logotipo de tu Organización Nacional o Local aquí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érer ici le logo de l’Organisation nationale ou loc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3:15:48Z</dcterms:created>
  <dc:creator>JCI</dc:creator>
  <dc:description/>
  <dc:language>en-US</dc:language>
  <cp:lastModifiedBy>Laura Tabat</cp:lastModifiedBy>
  <dcterms:modified xsi:type="dcterms:W3CDTF">2011-04-11T18:10:52Z</dcterms:modified>
  <cp:revision>7</cp:revision>
  <dc:subject/>
  <dc:title>Slide 1</dc:title>
</cp:coreProperties>
</file>